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23.gif" ContentType="image/gi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68C-0892-470C-9BCB-AB40FFC7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07B-9685-4590-A684-6C9D138F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DFE-BD93-4EF7-B901-9A23C148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BB4-C2F1-445F-8B61-4F1113F6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34F2-1F7B-4F50-AAF0-4C6D2B1E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AC38-4E47-4886-B921-DE806596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EF22-FF1D-4F25-B1CF-F7FFBCE3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558E-91AF-4C5E-8AF3-C9FA04DC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8D10-44E3-4348-A38F-FDA23177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1AD2-D010-4E40-915C-F0AFD5C6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24F4-73BA-40A2-9F3E-643DD895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F97-E71B-45CF-8743-A46222F9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AD97-C634-426F-AA3B-89344B81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C221-6BC4-414B-BCC9-573B22E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E2CA-1EF8-460F-97FD-1B786DAF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42DE-4A32-4CAC-B75F-ADB24948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77F1-1F9C-416B-990B-BD867D3E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B564-2D44-46A8-8FB6-947E739B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9C67-20CA-41FA-A3E4-1E153FA8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DFD1-4090-44BB-8D89-88F66C88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B8E7-3AAB-43BF-B4B1-E31DA5AF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B095-B072-4AC9-820C-F9BBEAE5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A20-3CC1-4A24-949D-24647BD9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14B3-A936-4E2A-B1B2-A59011F3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C1679-090D-491B-B34C-5EDBD6D2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4A44F-E98F-42AA-BD23-68C9479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2462-B713-4BF0-A058-988BE964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A3C5-C248-49ED-AC71-EBB748DD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F79D0-139D-48D4-B808-BA537C7F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3D02-A88B-4635-B388-20F3831B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3C9C-E4F2-4214-A1D9-41921160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0271D-5062-45BD-BC98-6BA4FA49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2EAB9-D0B2-4521-B1B9-510E0021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D60-7F06-41BA-9BC1-3C157393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7997A-21A5-4B9E-BCBB-58FC3129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08435-1CA5-432F-954F-AAEDF008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FDB7A-845E-4DB6-B7EC-001E871E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FE176-5B0C-472F-8486-64855CA7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DE3D-1B0F-4AB5-B9BD-739C8EB7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2E97C-C4FC-401A-AD06-69C2558B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DF74D-2920-420A-B8B2-0F95EFA6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E8E41-4E83-48AD-8A7D-D1A98034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CA9D8-4F70-417B-A8E0-E8F076B6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8F6-E8B0-47C1-A7E3-CA487070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156-1148-4DA8-8396-04EB5EC3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6D5-6866-46B5-8F25-99A56215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182-A17B-4F16-B7EB-BE6FEB1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98B-6B4A-48A6-8F4E-5BF9927D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6675-4191-4853-9BC5-978A8BB90FD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8E6D-48EE-43F7-88DF-4B2A6E481A0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0983-5D12-4CE9-9BA4-ADD44E5A48B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C027-BE21-459C-AFB7-7310A7ED055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javascript:showWindow(&apos;http://gallery.new-ecopsychology.org/ru/photo/common_toad_(bufo_bufo)-4.htm&apos;)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javascript:showWindow(&apos;http://www.herpetofauna.at/amphibien/pelobates_fuscus.php&apos;)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javascript:showWindow(&apos;http://karzes.best.vwh.net/barred_leaf_frog.html&apos;)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javascript:%20window.open(&apos;Dendrobates_4.html&apos;,&apos;Dendrobates_4&apos;,&apos;width=680,height=783,resizable=yes,scrollbars=yes,status=no,toolbar=no,menubar=no,left=0,top=0&apos;);%20void(0);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javascript:%20window.open(&apos;Dendrobates_6.html&apos;,&apos;Dendrobates_6&apos;,&apos;width=1044,height=720,resizable=yes,scrollbars=yes,status=no,toolbar=no,menubar=no,left=0,top=0&apos;);%20void(0);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avascript:showWindow(&apos;http://gallery.new-ecopsychology.org/ru/photo/common_frog_(rana_temporaria)-2.htm&apos;)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javascript:showWindow(&apos;http://www.gymnophiona.org/database/typhlonectidae/typhlonectes/natans/Typhlonectes1.jpg&apos;)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274284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Чудо-лапы бесхвостых амфиб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ечности бесхвостых земноводных созданы для активной жизнедеятельности как в воде, так и на суше. Их передние лапы совсем не похожи на лапы других четвероногих. Их и лапами-то никак не назовёшь: они больше напоминают детские ручонки! Но эти замечательные конечности помогают им не только передвигаться по земле, но и взбираться на деревья, рыть землю, строить гнёзда и многое друг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Жаба сера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52280"/>
            <a:ext cx="7010280" cy="25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ногие виды амфибий обладают способностью быстро закапываться в землю. Для этого они имеют на лапах специальные роговые мозоли. Так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чесночниц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Pelobates fuscus) ночью занимается охотой, а днём прячется в земле, закапываясь. Делает это она достаточно ловко: менее, чем за минуту она может полностью погрузиться в песок или рыхлую землю. Так эти животные пустынь поступают, в частности, каждое утро, прячась от иссушающего дневного зно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чесночница (Pelobates fuscu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52280"/>
            <a:ext cx="6858000" cy="25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3047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вакши филломедузы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Phyllomedusa) способны противопоставлять на передних и задних лапках первые пальцы — остальным, совсем как обезьяны! Благодаря этому филломедузы легко обхватывают лапками ветки и очень крепко на них держатся. Любопытно, что и по всему образу жизни они напоминают обезьян ленивцев, проводя время в медленном и как бы ленивом перемещении по ветвям крон деревье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Филломедуза (Phyllomedusa tomoptern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286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яд самца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быкновенного тритон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Triturus vulgaris) не столь эффектен, но зато он умеет здорово танцевать перед своей невестой. Например, он вначале делает на дне стойку на голове и передних лапках — целых десять секунд! Потом переходит к динамичным акробатическим этюдам, включающим «танец хвоста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Малоазиатский тритон (Triturus vittatus)"/>
          <p:cNvPicPr/>
          <p:nvPr/>
        </p:nvPicPr>
        <p:blipFill>
          <a:blip r:embed="rId1"/>
          <a:stretch/>
        </p:blipFill>
        <p:spPr>
          <a:xfrm>
            <a:off x="685800" y="228600"/>
            <a:ext cx="716292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ть среди амфибий и способ вынашивания детёнышей, аналогичный сумчатым млекопитающим. Так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суринамская пип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Pipa pipa) и пипа Карвальо (Pipa carvalhoi) выращивают головастиков в ячеистой «сумке» на собственной сп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амки сумчатых квакш (Hemiphractinae) также вынашивают оплодотворённую икру в особом кожном кармане (сумке) на сп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Пипа Карвальо (Pipa carvalhoi)"/>
          <p:cNvPicPr/>
          <p:nvPr/>
        </p:nvPicPr>
        <p:blipFill>
          <a:blip r:embed="rId1"/>
          <a:stretch/>
        </p:blipFill>
        <p:spPr>
          <a:xfrm>
            <a:off x="1066680" y="228600"/>
            <a:ext cx="693432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2" descr="Жаба с карман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15228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«Карманные» де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степенно икринки пипы американы оказываются в чем-то наподобие специальных кармашков с клапанами. В каждом таком шестигранном кармашке, имеющем глубину до пятнадцати миллиметров, помещается только одна икринка. Закрывающий клапан представляет собой кожистую крышечку диаметром пять-шесть миллиметров. Скрытый под этой крышечкой детеныш пипы суринамской проходит практически все стадии развития, вплоть до формирования маленького лягушонка. Так что головастиков пипы в природе встретить невозможно. Все необходимое в процессе развития питание детеныши получают через кожу матери — стенки, разделяющие спину на отдельные кармашки, насыщены питательными сосуда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сего на широкой материнской спине помещается от сорока до сотни с лишним "Лягушачьих яиц". Причем икра пипы американы очень крупная: к концу развития каждая икринка вырастает до шести-семи миллиметров в диаметре, а ее вес достигает трех с половиной граммов. Затем наступает длительный период вынашивания икры, во время которого пипа ведет себя совершенно спокойно и независимо. От момента спаривания до появления на свет первого лягушонка проходит восемьдесят два дн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оцесс появления на свет маленьких пип также по-своему уникален. И еще, наверное, никому, кроме знаменитого Даррелла, не удалось описать этот удивительный момент так красочно и подробно: "Самка лежала, распластавшись на поверхности воды, в своей обычной позе, тяжелая и раздутая, выглядя так — все пипы выглядят так, отдыхая, — будто она умерла несколько недель назад и уже частично разложилась. Я внимательно ее оглядел — я все время так делал, чтобы увериться, что она и вправду не умерла,— как вдруг заметил какое-то копошение у нее на спине. Присмотревшись, я увидел крошечную лапу, она торчала прямо из спины жабы и слабо колыхалась, из чего я заключил, что наконец-то настал великий момент. Все утро я то и дело заглядывал в жестянку и отмечал величайшее оживление в карманах: крошечные руки и ноги высовывались из них под самыми невероятными углами, неуверенно помахивали в воздухе и поспешно прятались обратно. Раз из одного кармана показались голова и лапы детеныша, и впечатление было такое, будто кто-то высовывается из люка. Когда я наклонил жестянку, чтобы получше разглядеть его, жабеныш оробел и, отчаянно заработав лапами, снова упрятался в карман. Жаба, казалось, совершенно не замечала ерзанья, дрыганья и толкотни, разыгравшихся на ее пространной спине. Она лежала на воде и была как мертвая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бота о потомстве достигает крайней степени у двух видов австралийски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ботливых лягушек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Rheobatrachus silus и Rheobatrachus Vitellinus. Эти виды — единственные известные животные, вынашивающие свое потомство в желудке. Самка заглатывает икринки после того, как их оплодотворит самец. Через 7–8 недель полностью сформированные лягушата выползают в рот матери, садятся к ней на язык и с него выпрыгивают в окружающий ми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Носатый реобатрахус, заботливая лягушка"/>
          <p:cNvPicPr/>
          <p:nvPr/>
        </p:nvPicPr>
        <p:blipFill>
          <a:blip r:embed="rId1"/>
          <a:stretch/>
        </p:blipFill>
        <p:spPr>
          <a:xfrm>
            <a:off x="914400" y="228600"/>
            <a:ext cx="716292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00000"/>
                </a:solidFill>
                <a:uFillTx/>
                <a:latin typeface="Calibri"/>
              </a:rPr>
              <a:t>Ли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Источник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айны ХХ века, №14, апрель 2009, Елена АЛЕКСАНДР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Акимушкин И.И. — Мир животных. Птицы, рыбы, земноводные и пресмыкающиеся.  "Мысль", М.,1989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Брэм А.Э. — Жизнь животных. "Терра", М.,1996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Я познаю мир: Амфибии. "АСТ", М., 1998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ы материалы с                      сайтов:</a:t>
            </a:r>
            <a:br>
              <a:rPr sz="45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80720"/>
            <a:ext cx="8229600" cy="4343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http://zoo-eco.zooclub.ru/rept.html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http://www.floranimal.ru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http://www.terrarium1.narod.ru/papka6/index.htm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22096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аламандры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пособность этих хвостатых земноводных отращивать себе лапы, легкие, мозг волновала человечество на протяжении тысячелетий — ее изучали Аристотель, Вольтер, Дарвин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Когда животное теряет часть тела, клетки поверхностного слоя кожи быстро покрывают рану так называемой эпителиальной крышкой, фибробласты разрывают связи с соединительной тканью и образуют на месте раны бластему, из которой формируется новая конечность. К примеру, на новую лапу уходит всего три недели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В конце XX века ученые предполагали, что клетки саламандр похожи на стволовые, то есть могут превращаться в любой орган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Загадка саламандр"/>
          <p:cNvPicPr/>
          <p:nvPr/>
        </p:nvPicPr>
        <p:blipFill>
          <a:blip r:embed="rId1"/>
          <a:stretch/>
        </p:blipFill>
        <p:spPr>
          <a:xfrm>
            <a:off x="0" y="0"/>
            <a:ext cx="4419720" cy="2133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Уменьшение популяций саламандры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onstanti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5" descr="C:\Мои картинки\Новая папка\Рисунок5.gif"/>
          <p:cNvPicPr/>
          <p:nvPr/>
        </p:nvPicPr>
        <p:blipFill>
          <a:blip r:embed="rId1"/>
          <a:stretch/>
        </p:blipFill>
        <p:spPr>
          <a:xfrm>
            <a:off x="3276720" y="68580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Стихи для детей о насекомых"/>
          <p:cNvPicPr/>
          <p:nvPr/>
        </p:nvPicPr>
        <p:blipFill>
          <a:blip r:embed="rId2"/>
          <a:stretch/>
        </p:blipFill>
        <p:spPr>
          <a:xfrm>
            <a:off x="914400" y="3276720"/>
            <a:ext cx="7391520" cy="335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52280" y="3047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кие животные в момент опасности могут сделать себе когти из подкожных кост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фриканская лягушка Trichobatrachus robustus имеет уникальный механизм защиты. В момент опасности у неё ломаются подкожные кости, протыкают кожу и высовываются наружу, словно кошачьи когти. Как происходит обратное «втягивание», пока неизвестно — предположительно, порванная ткань регенерирует, а кости вновь срастают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Какие животные в момент опасности могут сделать себе когти из подкожных костей?"/>
          <p:cNvPicPr/>
          <p:nvPr/>
        </p:nvPicPr>
        <p:blipFill>
          <a:blip r:embed="rId1"/>
          <a:stretch/>
        </p:blipFill>
        <p:spPr>
          <a:xfrm>
            <a:off x="1905120" y="228600"/>
            <a:ext cx="50292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2895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nstantia"/>
              </a:rPr>
              <a:t>Самая ядовитая лягуш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Ядовитые свойтва кожных выделений амфибий были известны с давних времен - в частности, Авиценна описывал симптомы отравления жабьим ядом и возможности его использования для лечения некоторых болезней. В древнем Риме также использовали жаб для отравления, хотя и не всегда успешно. Форестус описал историю, когда некая женщина в Риме решила отравить своего мужа, страдавшего отечностью. Для этого она подсыпала ему в еду порошок высушенных и истолченных жаб, но вместо того, чтобы помереть, муж вскоре излечился от отечности. Американские индейцы также очень хорошо знали о ядовитости некоторых лягушек. Они смазывали ядом стрелы для духовых трубок и использовали их для охоты, в том числе и на ягуара - при этом смерть добычи наступала через 4-8 мину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Dendrobates ventrimaculat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28600"/>
            <a:ext cx="6400800" cy="26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иболее токсич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и наиболее ярко окрашенные - хорошо известный в природе факт предостерегающей окраски) амфибии живут в тропических лесах Южной Америки. Их английское название - Poison Dart Frogs или Poison Arrow Frogs - так и переводится - "лягушки отравленных стрел". Латинское название семейства - Dendrobatidae (Древолазы) - отражает другую их характеристику. Эти лягушки благодаря своей фантастической окраске быстро привлекли к себе внимание террариумистов и сейчас активно разводятся в террариума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Phyllobates terribil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28600"/>
            <a:ext cx="6019560" cy="24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1920" y="297180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Древнейшая амфибия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Ichthyostega (первое четвероногое) была найдена в Гренландия, ее предполагаемый возраст 350 000 000 ле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Фото"/>
          <p:cNvPicPr/>
          <p:nvPr/>
        </p:nvPicPr>
        <p:blipFill>
          <a:blip r:embed="rId1"/>
          <a:stretch/>
        </p:blipFill>
        <p:spPr>
          <a:xfrm>
            <a:off x="990720" y="228600"/>
            <a:ext cx="6858000" cy="26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31237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Самые многочисленные…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Род лягушек Eleutherodactylus является самым большим родом среди позвоночных, но широкой публике он мало известен. В него включено более 500 видов, число которых с каждым годом увеличивается по мере описания новых видов. Все они распространены в тропической зоне Америки, ряд видов встречается во Флориде, Техасе и Аризоне. Из них наиболее известна Eleutherodactylus coqui, живой символ Пуэрто Рик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ommon_frog_(rana_temporaria)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04920"/>
            <a:ext cx="66294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3733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езногие, или червяг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Apoda, или Gymnophiona). Сюда относят амфибий, напоминающих земляных червей. У них нет ни хвоста, ни лап. Это — наиболее примитивные по строению формы амфиб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Широкоголовая червяга (Typhlonectes natan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28600"/>
            <a:ext cx="6858000" cy="32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3200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бирский углозуб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итая в условиях вечной мерзлоты, этот тритон способен пережить понижение температуры до -20'С в природе и до -30 — -35'С в экспериментальных условиях. Именно этих амфибий находили геологи в ископаемом льду вечной мерзлоты, где углозубы провели по несколько десятков лет! Но стоило заледеневшему тритону растаять и согреться — он тут же принимается ловить мух и пауков как ни в чём не бывало! Как могут сибирские углозубы сохранять жизнь, превратясь, по сути, в льдинки? Оказывается, при минусовых температурах вода в клетках тканей углозуба замещается глицерином, который обладает низкой температурой замерзания и предохраняет клетки от гибел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Сибирский углозуб (Hynobius keyserlingi)"/>
          <p:cNvPicPr/>
          <p:nvPr/>
        </p:nvPicPr>
        <p:blipFill>
          <a:blip r:embed="rId1"/>
          <a:stretch/>
        </p:blipFill>
        <p:spPr>
          <a:xfrm>
            <a:off x="914400" y="0"/>
            <a:ext cx="6553080" cy="312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6:00:07Z</dcterms:created>
  <dc:creator>алена</dc:creator>
  <dc:description/>
  <dc:language>en-US</dc:language>
  <cp:lastModifiedBy>студент</cp:lastModifiedBy>
  <dcterms:modified xsi:type="dcterms:W3CDTF">2010-06-04T13:13:02Z</dcterms:modified>
  <cp:revision>16</cp:revision>
  <dc:subject/>
  <dc:title>Интересные факты о  земноводных</dc:title>
</cp:coreProperties>
</file>